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D07-15E0-42E2-B187-B82AD3E4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83F-346D-4528-A2BF-8AB5924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6FD-DC91-4A9C-BB61-BB479A9E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8B8-3B2F-458A-8940-10A741D2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F4A7-DD73-4EEF-A036-39BAC294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1E08A-7397-4B1E-A2D0-057131C3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DB143-4B95-43A6-9436-C282BF62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7899-72CF-417A-A7C9-78C9650E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49500-B65D-46ED-8FE7-E741455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F1DF8-5B71-45FE-B3B0-CA18D14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8442C-93F7-4611-9D52-23321BCA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271-0B1A-478E-A91E-55754DD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2FD1F-5ED4-492C-9E3A-EE89E0F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8DDBE-0109-4CD5-BD82-A05A651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CEEF5-79F1-43EF-9722-0B3DB62D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89B69-3D6F-4632-AC8E-E80D2150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87005-0FB6-4DAA-9FFF-26A32560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7E0-2F26-4588-82BC-E9051928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402-6098-479F-8624-9CDB7FF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F19-BFE4-4F45-84AA-7F3F606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2E4-092B-467F-9066-81A5A2FE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29B-AC39-43BE-A211-7152C71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77D-F9FF-4A19-ADE5-A205DFD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815-E072-4EBC-B33F-1428984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FCA0-F73B-43D1-A62B-81E7FCFB986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037C-497C-4822-9D80-867902E399D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7560" y="1142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工会经济技术和劳动保护业务概述</a:t>
            </a:r>
            <a:br>
              <a:rPr sz="6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cc"/>
                </a:solidFill>
                <a:latin typeface="Arial"/>
                <a:ea typeface="华文仿宋"/>
              </a:rPr>
              <a:t>大连市总工会经济保护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cc"/>
                </a:solidFill>
                <a:latin typeface="Arial"/>
                <a:ea typeface="华文仿宋"/>
              </a:rPr>
              <a:t>邓守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cc"/>
                </a:solidFill>
                <a:latin typeface="Arial"/>
                <a:ea typeface="华文仿宋"/>
              </a:rPr>
              <a:t>13940833644</a:t>
            </a:r>
            <a:r>
              <a:rPr b="0" lang="zh-CN" sz="2800" spc="-1" strike="noStrike">
                <a:solidFill>
                  <a:srgbClr val="00ffcc"/>
                </a:solidFill>
                <a:latin typeface="Arial"/>
                <a:ea typeface="华文仿宋"/>
              </a:rPr>
              <a:t>　</a:t>
            </a:r>
            <a:r>
              <a:rPr b="0" lang="zh-CN" sz="2800" spc="-1" strike="noStrike">
                <a:solidFill>
                  <a:srgbClr val="00ffcc"/>
                </a:solidFill>
                <a:latin typeface="Arial"/>
                <a:ea typeface="华文仿宋"/>
              </a:rPr>
              <a:t>826204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二、保护业务简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  <a:ea typeface="华文行楷"/>
              </a:rPr>
              <a:t>劳动竞赛：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会传统工作，是经济技术工作核心。包括：生产竞赛，合理化建议，技术攻关、革新、协作、发明创造，岗位练兵、技术比赛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功能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创造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激励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教育功能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学增才干，学先进、正导向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发展生产、提高职工收入、提高工会地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华文行楷"/>
              </a:rPr>
              <a:t>原则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服务经济发展和生产经营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互学共助、共同成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有利职工参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职工得实惠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物、精，双赢：不变相加强度、回报合理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分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生产型竞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智能型竞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合理化建议、技术攻关、技术革新、发明创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技能型竞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岗位练兵、技术比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华文行楷"/>
              </a:rPr>
              <a:t>生产型竞赛组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成立领导机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会和行政及其他相关部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确定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重在可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制定方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组织实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作好实施前准备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过程指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评比表彰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公正、物质精神相适宜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总结推广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知识产权保护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智能型竞赛</a:t>
            </a: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---</a:t>
            </a: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合理化建议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 概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关改进和完善企业、事业单位生产技术和经营管理方面的办法和措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 活动管理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健全制度。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86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年国务院：合理化建议和技术改造奖励条例   原国家经委、全总：合理化建议和技术改造奖励条例实施细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完善程序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前期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发动征集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中期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评审实施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后期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奖励推广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可计算经济效益、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难计算经效   评分法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特殊情况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技术储备、多年见效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技能型竞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----</a:t>
            </a: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岗位练兵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实际出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全员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突出科学性，与时俱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建立竞争激励机制和科学管理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-------</a:t>
            </a: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技术比赛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命题：实用、普遍、正确、可测、可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立足：能力培养   知识把握更新   与国家职业资格认证体系结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班组建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班组特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促进 企业发展、提高职工素质、促进企业民主管理、促进和谐企业建设、增强工会活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班组建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发挥群众工作优势服务发展 。加强班组管理，开展班组升级竞赛活动，健全民主管理制度、职工小家建设、班组有成长得实惠。培训好班组长、典型选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劳模</a:t>
            </a: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奖章</a:t>
            </a: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) </a:t>
            </a: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注重日常选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评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严把条件、发扬民主、程序合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学习、用足政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大政办发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2011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年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56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号文     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100,160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，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200,240,4 -6 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        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工人先锋号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(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班组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)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、大连名师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(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津贴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)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。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2008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大政办发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47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号，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5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年管理期内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80</a:t>
            </a:r>
            <a:r>
              <a:rPr b="0" lang="zh-CN" sz="2400" spc="-1" strike="noStrike">
                <a:solidFill>
                  <a:srgbClr val="33cc33"/>
                </a:solidFill>
                <a:latin typeface="华文仿宋"/>
                <a:ea typeface="华文仿宋"/>
              </a:rPr>
              <a:t>元每月政府 冿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  <a:ea typeface="华文行楷"/>
              </a:rPr>
              <a:t>三、工会劳动保护概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0066"/>
                </a:solidFill>
                <a:latin typeface="隶书"/>
                <a:ea typeface="隶书"/>
              </a:rPr>
              <a:t>工会劳动保护工作</a:t>
            </a:r>
            <a:r>
              <a:rPr b="0" lang="zh-CN" sz="4100" spc="-1" strike="noStrike">
                <a:solidFill>
                  <a:srgbClr val="ff0066"/>
                </a:solidFill>
                <a:latin typeface="隶书"/>
                <a:ea typeface="隶书"/>
              </a:rPr>
              <a:t>(</a:t>
            </a:r>
            <a:r>
              <a:rPr b="0" lang="zh-CN" sz="4100" spc="-1" strike="noStrike">
                <a:solidFill>
                  <a:srgbClr val="ff0066"/>
                </a:solidFill>
                <a:latin typeface="隶书"/>
                <a:ea typeface="隶书"/>
              </a:rPr>
              <a:t>工会为什么要干</a:t>
            </a:r>
            <a:r>
              <a:rPr b="0" lang="zh-CN" sz="4100" spc="-1" strike="noStrike">
                <a:solidFill>
                  <a:srgbClr val="ff0066"/>
                </a:solidFill>
                <a:latin typeface="隶书"/>
                <a:ea typeface="隶书"/>
              </a:rPr>
              <a:t>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仿宋"/>
              </a:rPr>
              <a:t>      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华文仿宋"/>
              </a:rPr>
              <a:t>1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华文仿宋"/>
              </a:rPr>
              <a:t>、法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华文仿宋"/>
              </a:rPr>
              <a:t>  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华文仿宋"/>
              </a:rPr>
              <a:t>2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华文仿宋"/>
              </a:rPr>
              <a:t>、职责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------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法律赋予的职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、我国《劳动法》《工会法》《安全生产法》《职业病防治法》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　劳动法：工会代表和维护劳动者合法权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　安全生产法第一章“总则”第七条 “工会依法组织职工参加本单位安全生产工作的民主管理和民主监督，维护职工在安全生产方面的合法利益。”</a:t>
            </a:r>
            <a:r>
              <a:rPr b="0" lang="zh-CN" sz="2800" spc="-1" strike="noStrike">
                <a:solidFill>
                  <a:srgbClr val="0066ff"/>
                </a:solidFill>
                <a:latin typeface="仿宋"/>
                <a:ea typeface="仿宋"/>
              </a:rPr>
              <a:t>（修改）</a:t>
            </a: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生产经营单位制定或修改有关安全生产的规章制度，</a:t>
            </a:r>
            <a:r>
              <a:rPr b="0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应当</a:t>
            </a: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听取工会的意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　对三同时监督、提出意见，依法参与事故调查，提出处理意见、要求追究相关人员责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主要内容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部门职能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护基础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作好工会经济保护工作的建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304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66"/>
                </a:solidFill>
                <a:latin typeface="隶书"/>
                <a:ea typeface="隶书"/>
              </a:rPr>
              <a:t>----</a:t>
            </a:r>
            <a:r>
              <a:rPr b="0" lang="zh-CN" sz="3300" spc="-1" strike="noStrike">
                <a:solidFill>
                  <a:srgbClr val="ff0066"/>
                </a:solidFill>
                <a:latin typeface="隶书"/>
                <a:ea typeface="隶书"/>
              </a:rPr>
              <a:t>组织职能决定的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体现组织维护职能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仿宋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仿宋"/>
              </a:rPr>
              <a:t>企业关注生产，安全出发点和落脚点都应是职工的生命和健康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华文仿宋"/>
              </a:rPr>
              <a:t>　　　人权角度：生存权、政治权、获得社会福利权、劳动权、宗教信仰权等，生命是其他权利的基础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肩负提高职工安全意识和技能的重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为经济快速、稳定、健康发展提供保障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安全工作现状，职工是基础　一线、了解、群众性安全生产作用，夯实安全生产工作基础。</a:t>
            </a:r>
            <a:r>
              <a:rPr b="0" i="1" lang="zh-CN" sz="2600" spc="-1" strike="noStrike">
                <a:solidFill>
                  <a:srgbClr val="ff0066"/>
                </a:solidFill>
                <a:latin typeface="华文仿宋"/>
                <a:ea typeface="华文仿宋"/>
              </a:rPr>
              <a:t>服务大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331920"/>
            <a:ext cx="533376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隶书"/>
              </a:rPr>
              <a:t>工会劳动保护职能机构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各级总工会设专门机构，配专门干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企业：大型企业工会通常设劳动保护机构，中小企业工会设专人，负责劳动保护工作。企业应建立劳动保护监督检查员队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工会劳动保护监督检查员是各级工会开展劳动保护的骨干力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工会劳动保护方法和载体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0000"/>
                </a:solidFill>
                <a:latin typeface="仿宋"/>
                <a:ea typeface="仿宋"/>
              </a:rPr>
              <a:t>1</a:t>
            </a:r>
            <a:r>
              <a:rPr b="0" lang="zh-CN" sz="4100" spc="-1" strike="noStrike">
                <a:solidFill>
                  <a:srgbClr val="ffffff"/>
                </a:solidFill>
                <a:latin typeface="仿宋"/>
                <a:ea typeface="仿宋"/>
              </a:rPr>
              <a:t>、班组安全建设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仿宋"/>
                <a:ea typeface="仿宋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仿宋"/>
                <a:ea typeface="仿宋"/>
              </a:rPr>
              <a:t>班组是工矿商贸企业的基层组织。据大量事故案例分析，</a:t>
            </a:r>
            <a:r>
              <a:rPr b="0" lang="zh-CN" sz="3000" spc="-1" strike="noStrike">
                <a:solidFill>
                  <a:srgbClr val="ffffff"/>
                </a:solidFill>
                <a:latin typeface="仿宋"/>
                <a:ea typeface="仿宋"/>
              </a:rPr>
              <a:t>90%</a:t>
            </a:r>
            <a:r>
              <a:rPr b="0" lang="zh-CN" sz="3000" spc="-1" strike="noStrike">
                <a:solidFill>
                  <a:srgbClr val="ffffff"/>
                </a:solidFill>
                <a:latin typeface="仿宋"/>
                <a:ea typeface="仿宋"/>
              </a:rPr>
              <a:t>以上的事故发生在班组，</a:t>
            </a:r>
            <a:r>
              <a:rPr b="0" lang="zh-CN" sz="3000" spc="-1" strike="noStrike">
                <a:solidFill>
                  <a:srgbClr val="ffffff"/>
                </a:solidFill>
                <a:latin typeface="仿宋"/>
                <a:ea typeface="仿宋"/>
              </a:rPr>
              <a:t>90%</a:t>
            </a:r>
            <a:r>
              <a:rPr b="0" lang="zh-CN" sz="3000" spc="-1" strike="noStrike">
                <a:solidFill>
                  <a:srgbClr val="ffffff"/>
                </a:solidFill>
                <a:latin typeface="仿宋"/>
                <a:ea typeface="仿宋"/>
              </a:rPr>
              <a:t>以上的事故是由于违章指挥、违章作业和设备隐患没能及时发现和消除等人为因素造成的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加强班组安全建设是企业加强安全生产管理的关键，也是减少伤亡和各类灾害事故最切实、最有效的办法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0" lang="zh-CN" sz="2600" spc="-1" strike="noStrike">
                <a:solidFill>
                  <a:srgbClr val="33cc33"/>
                </a:solidFill>
                <a:latin typeface="华文行楷"/>
                <a:ea typeface="华文行楷"/>
              </a:rPr>
              <a:t>主要内容：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班组安全生产要实行目标管理，逐步实现标准化、规范化、制度化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安全制度      安全规范       安全学习和训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推广现代安全管理方法        </a:t>
            </a:r>
            <a:r>
              <a:rPr b="0" lang="zh-CN" sz="2600" spc="-1" strike="noStrike">
                <a:solidFill>
                  <a:srgbClr val="ff0000"/>
                </a:solidFill>
                <a:latin typeface="华文仿宋"/>
                <a:ea typeface="华文仿宋"/>
              </a:rPr>
              <a:t>群众安全监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华文仿宋"/>
                <a:ea typeface="华文仿宋"/>
              </a:rPr>
              <a:t>     </a:t>
            </a:r>
            <a:r>
              <a:rPr b="0" lang="zh-CN" sz="2600" spc="-1" strike="noStrike">
                <a:solidFill>
                  <a:srgbClr val="33cc33"/>
                </a:solidFill>
                <a:latin typeface="华文行楷"/>
                <a:ea typeface="华文行楷"/>
              </a:rPr>
              <a:t>核心：</a:t>
            </a:r>
            <a:r>
              <a:rPr b="0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全员参与、全过程实施、全方位实现安全管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cc33"/>
                </a:solidFill>
                <a:latin typeface="华文行楷"/>
                <a:ea typeface="华文行楷"/>
              </a:rPr>
              <a:t>                         </a:t>
            </a:r>
            <a:r>
              <a:rPr b="1" lang="zh-CN" sz="2600" spc="-1" strike="noStrike">
                <a:solidFill>
                  <a:srgbClr val="33cc33"/>
                </a:solidFill>
                <a:latin typeface="华文行楷"/>
                <a:ea typeface="华文行楷"/>
              </a:rPr>
              <a:t>工会定位：</a:t>
            </a:r>
            <a:r>
              <a:rPr b="1" lang="zh-CN" sz="2600" spc="-1" strike="noStrike">
                <a:solidFill>
                  <a:srgbClr val="ff0066"/>
                </a:solidFill>
                <a:latin typeface="华文行楷"/>
                <a:ea typeface="华文行楷"/>
              </a:rPr>
              <a:t>(</a:t>
            </a:r>
            <a:r>
              <a:rPr b="1" lang="zh-CN" sz="2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协助、督促</a:t>
            </a:r>
            <a:r>
              <a:rPr b="1" lang="zh-CN" sz="2600" spc="-1" strike="noStrike">
                <a:solidFill>
                  <a:srgbClr val="ff0066"/>
                </a:solidFill>
                <a:latin typeface="华文行楷"/>
                <a:ea typeface="华文行楷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、安康杯竞赛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由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世纪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年代中期人由包头市总工会等单位首创。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998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年全总和原国家经贸委总结推开。大连已开展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含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取“安全”“健康”之意而设立安全生产荣誉奖杯。把竞争、激励机制应用于安全生产活动的群众性竞赛，是</a:t>
            </a:r>
            <a:r>
              <a:rPr b="0" lang="zh-CN" sz="2800" spc="-1" strike="noStrike">
                <a:solidFill>
                  <a:srgbClr val="ff0066"/>
                </a:solidFill>
                <a:latin typeface="华文仿宋"/>
                <a:ea typeface="华文仿宋"/>
              </a:rPr>
              <a:t>劳动竞赛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安全领域的应用、实践和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      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通过赛安全生产管理、领导者安全生产意识、职工安全生产知识水平和能力、安全生产各项指标等，不断推进企事业单位安全生产工作和安全文化建设，不断扩大社会影响，提高全民安全生产意识，最终达到降低各类事故的发生率和各类职业病的发病率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、结合实际，有的放矢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、发挥工会优势，活动创新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华文仿宋"/>
              </a:rPr>
              <a:t>、合力推进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安全隐患报告奖励制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　（水凉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　　引导、鼓励职工参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　　增强企业实力、增加职工收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455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四、作好工会经济保护工作的建议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强化业务学习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0" lang="zh-CN" sz="3200" spc="-1" strike="noStrike">
                <a:solidFill>
                  <a:srgbClr val="33cc33"/>
                </a:solidFill>
                <a:latin typeface="华文仿宋"/>
                <a:ea typeface="华文仿宋"/>
              </a:rPr>
              <a:t>突出重点、核心竞争力和普适性相结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准确定位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主导、合作、协助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what,why, where,time, get  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注意工伤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 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抓住关键，有的放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作规划（主、次，先后）。看重我、考核我的，自已玩的，别人干不好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借力推进，提升形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提升工会影响、地位，提升个人形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66"/>
                </a:solidFill>
                <a:latin typeface="华文仿宋"/>
                <a:ea typeface="华文仿宋"/>
              </a:rPr>
              <a:t>　　</a:t>
            </a:r>
            <a:r>
              <a:rPr b="0" lang="zh-CN" sz="4500" spc="-1" strike="noStrike">
                <a:solidFill>
                  <a:srgbClr val="ff0066"/>
                </a:solidFill>
                <a:latin typeface="华文仿宋"/>
                <a:ea typeface="华文仿宋"/>
              </a:rPr>
              <a:t>!!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66"/>
                </a:solidFill>
                <a:latin typeface="华文仿宋"/>
                <a:ea typeface="华文仿宋"/>
              </a:rPr>
              <a:t>　　</a:t>
            </a: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注意工作方法，注重保护自己，提升维护技能、技巧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cc"/>
                </a:solidFill>
                <a:latin typeface="华文行楷"/>
                <a:ea typeface="华文行楷"/>
              </a:rPr>
              <a:t>常怀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恩</a:t>
            </a:r>
            <a:r>
              <a:rPr b="0" lang="zh-CN" sz="7200" spc="-1" strike="noStrike">
                <a:solidFill>
                  <a:srgbClr val="00ffcc"/>
                </a:solidFill>
                <a:latin typeface="华文行楷"/>
                <a:ea typeface="华文行楷"/>
              </a:rPr>
              <a:t>之心</a:t>
            </a:r>
            <a:br>
              <a:rPr sz="7200"/>
            </a:br>
            <a:r>
              <a:rPr b="0" lang="zh-CN" sz="7200" spc="-1" strike="noStrike">
                <a:solidFill>
                  <a:srgbClr val="00ffcc"/>
                </a:solidFill>
                <a:latin typeface="华文行楷"/>
                <a:ea typeface="华文行楷"/>
              </a:rPr>
              <a:t>       常做</a:t>
            </a:r>
            <a:r>
              <a:rPr b="0" lang="zh-CN" sz="7200" spc="-1" strike="noStrike">
                <a:solidFill>
                  <a:srgbClr val="33cc33"/>
                </a:solidFill>
                <a:latin typeface="华文行楷"/>
                <a:ea typeface="华文行楷"/>
              </a:rPr>
              <a:t>德善</a:t>
            </a:r>
            <a:r>
              <a:rPr b="0" lang="zh-CN" sz="7200" spc="-1" strike="noStrike">
                <a:solidFill>
                  <a:srgbClr val="00ffcc"/>
                </a:solidFill>
                <a:latin typeface="华文行楷"/>
                <a:ea typeface="华文行楷"/>
              </a:rPr>
              <a:t>之事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77840"/>
            <a:ext cx="655164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一、部门职能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部门名称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经济技术和劳动保护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合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部门职能主要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经济技术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劳动保护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24680" y="-5248440"/>
            <a:ext cx="152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工会经济技术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职工经济技术工作，是工会组织开展的旨在激发职工主人翁精神，调动职工积极性，团结动员职工投身经济建设的系列活动。主键包括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生产竞赛，合理化建议，技术攻关、革新、协作、发明创造、技术培训，岗位练兵、技术比赛，劳模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奖章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评选、管理、服务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8229600" cy="76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行楷"/>
              </a:rPr>
              <a:t>工会劳动保护：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         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指工会依据</a:t>
            </a:r>
            <a:r>
              <a:rPr b="0" lang="zh-CN" sz="3400" spc="-1" strike="noStrike">
                <a:solidFill>
                  <a:srgbClr val="33cc33"/>
                </a:solidFill>
                <a:latin typeface="Arial"/>
                <a:ea typeface="华文仿宋"/>
              </a:rPr>
              <a:t>法律赋予的职权，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监督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(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仿宋"/>
              </a:rPr>
              <a:t> -- 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)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企业有有关方面贯彻国家有关劳动安全卫生法律法规，发动职工群众参与企业安全生产工作，督促企业不断改善劳动条件，维护职工在生产劳动过程中的安全健康的合法权益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         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工会劳动保护工作是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仿宋"/>
              </a:rPr>
              <a:t>站在职工的立场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华文仿宋"/>
              </a:rPr>
              <a:t>上，推进企业安全工作上台阶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华文行楷"/>
              </a:rPr>
              <a:t>经济保护工作重要性：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体现工会组织特点的重要手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工会服务大局履职维护、建设重要手段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企业稳定生产环境和可持续发展的需要。人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国际竞争发展需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华文行楷"/>
              </a:rPr>
              <a:t>维护职能基础，落实建设职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-52653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华文行楷"/>
                <a:ea typeface="华文行楷"/>
              </a:rPr>
              <a:t>工作任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提高职工技术素质和安全保护技能，夯实自主创新能力基础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服务经济发展大局发挥作用。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结构调整、增长方式转变等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培育、评选先进，弘扬劳模精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打窂维护职工权益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参与经济科技安全政策制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经济技术主要工作内容：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动员组织职工开展立功竞赛活动，促进企业发展、推进国家经济发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发动职工开展合理化建议、技术革新、攻关、发明创造活动，推进企业技术进步，提高经营管理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开展岗位练兵、比武、师徒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bj 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技培，提高职工技术的操作技能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开展技术协作相关工作，促进科技成果转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做好劳模、奖章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状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评选表彰和管理服务，宣传事迹，弘扬精神，关心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----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加强班组建设，班组竞赛培训班组长   提高班组工作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参与国家、地方、企业经济科技相关政策法规 制度制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工会劳动保护的</a:t>
            </a:r>
            <a:r>
              <a:rPr b="0" lang="zh-CN" sz="2800" spc="-1" strike="noStrike">
                <a:solidFill>
                  <a:srgbClr val="ff6600"/>
                </a:solidFill>
                <a:latin typeface="华文仿宋"/>
                <a:ea typeface="华文行楷"/>
              </a:rPr>
              <a:t>具体任务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550"/>
              </a:spcBef>
              <a:buClr>
                <a:srgbClr val="e3e3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0" lang="zh-CN" sz="2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开展群众监督活动，为搞好安全生产和保护职工安全健康说话、办事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550"/>
              </a:spcBef>
              <a:buClr>
                <a:srgbClr val="e3e3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0" lang="zh-CN" sz="2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积极开展群众性的劳动保护宣传教育，不断提高职工的安全技术素质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550"/>
              </a:spcBef>
              <a:buClr>
                <a:srgbClr val="e3e3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0" lang="zh-CN" sz="2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组织开展预防事故和职业病多种群众活动，依靠群众搞好安全生产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06:35:04Z</dcterms:created>
  <dc:creator>dlgh</dc:creator>
  <dc:description/>
  <dc:language>en-US</dc:language>
  <cp:lastModifiedBy>MC SYSTEM</cp:lastModifiedBy>
  <dcterms:modified xsi:type="dcterms:W3CDTF">2014-07-20T06:52:0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